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00F-D0F1-4E3D-9378-1BDD2837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6A4A-BA69-48F7-AE94-34801672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F6A-07C7-41F5-B45C-1C7EDD8E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CFF-3F73-455B-AC75-74D627B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BF2-17E2-40B6-AD3D-8D34E5BD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846-D4B2-4F71-B17F-21DFCD9C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DF9-C3E0-4F23-9F66-7AC6AC8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D53-4982-4E31-8AD3-F39E44C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3ED-A44F-4016-BEAA-7DD20A7A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698-20EF-4F1A-BDC2-39F8E82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71D-F2E0-41C4-B9DE-4F290A8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759-6A44-42E3-BAB9-DB04423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F7D-6CB1-43AF-9E74-07D557E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F5D-FCE1-44D4-84B8-AC3E270D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3BC-E4F5-4D7B-A8D1-753D326DD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lene Luc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Sharlene Luc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Sharlene Lucer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05320"/>
            <a:ext cx="2035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Sharlene. Yo vivo en Nueva York. Yo tengo catorce años. Yo tengo 1  hermano.Yo soy amable y energ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8:35Z</dcterms:modified>
  <cp:revision>102</cp:revision>
  <dc:subject/>
  <dc:title>Profile</dc:title>
</cp:coreProperties>
</file>